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8AC-EEA2-4EE4-8970-104AD411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BF9-F69F-45B7-B479-5B87C9B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892CC-B4FF-48DF-803A-82988E49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02E87-8ADA-400F-94DA-8FEEE08B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04574-A2CF-4379-AF41-2E030BFC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4D7D2-2B85-41E9-B762-244A9DBA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1373F-0444-48B2-B446-2FA93143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D6C7D-CE82-4C5B-89B2-D0D22D56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F47A5-EB18-423D-BDA2-29E0ECB7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8F3C2-9173-4B65-A88D-1B208D93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8C2B7-38C7-443E-B468-6530A857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6ED9A-AE14-4544-9817-0188375F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069-181B-452B-AF21-8BCECB46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3B28A-8D7B-4B84-B4D3-CE1E7288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2DC0F-5A85-4935-80B1-6E843978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82CF5-F0CE-4E7D-A0C4-8050145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E0DD5-B90C-46CB-98DE-0DC091BF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6AF94-962B-4543-907B-8D4BD594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8F1AC-5032-4015-A826-D8484D91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D6B1B-00D2-46E0-9B09-44D44EFF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52D52-8279-445C-B695-60CA3F00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F586E-1D6A-4D93-8208-4D8E24AF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704F6-D216-44AF-8DEA-C0BE961C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30C-BFBD-414D-BB5E-B7D3380A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1F09D-28E0-4DE4-8D32-CB8F4695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BFC47-2252-440F-A0D3-BEEEC8E6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CF0DD-232F-410E-A5EA-94A4DFA1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CE97E-D8E1-4A73-8F91-198D9279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8455F-8D8B-449B-9AFD-37DA8636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6830C-17CA-45D3-B74E-2AC26F7E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C37F1-0EC0-47E6-AAD1-8A5C2DEB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54E8F-EF98-4D05-B2DE-69334544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98C86-8622-4C71-8AF6-437CB9E3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EE6E2-04CF-45B8-8A79-6370FBB8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8C03-E291-40A3-80C0-8324CA0F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ECAB2-69A8-4324-A346-2D07F20E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4172B-DADB-4A32-9166-E9589EC7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A92B7-C69C-4CAF-ACC1-31F9A5FC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798D1-8B62-4ED8-AC36-2D0CD6D3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54B42-F086-4587-B5D2-588083F7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A95FC-A1BE-429D-A4EA-57029ABE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AF3F6-43AF-4410-A4A2-9DF6367A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FBFC4-6755-48C7-A30A-DF16D498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4389E-A702-441A-825E-58F6098C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3F960-D03E-4FAA-9A40-A75B13D1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CC85-E122-4A74-9178-2856A5C0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701F1-1EAF-48C4-90C8-F992C24B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7745D-E169-4FBE-8CAD-4608B41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CB35C-8F6F-4E7C-BDCC-49983157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F409B-1E29-4332-98FB-B1041DA6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DA0D9-B581-496A-80FA-53FE0888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71EF6-3483-45E8-85C5-EC919A3B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E0CC8-2F9A-4CD5-AAEE-143479AE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AE28E-BA1C-4E4A-9B10-E5020527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57BDC-9745-4439-A5FF-F66FDF87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45DAA-7A49-4DAD-9365-92FFBE88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A55D-E4FA-4265-8424-F4500227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70094-E8FA-4A17-BCB2-CF8EDA5A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D27DB-76B2-4303-B593-759CA323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7E8C3-199C-45CA-B215-46EBF040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7739D-029A-4F67-90D5-EFFA6334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9CDE6-5B69-48EE-BF41-C851B4EF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04A1D-D49F-4B1A-AA7D-44A8B135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847D8-5584-4A85-9AD6-60E0537D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1CEA7-A8E1-4A1F-8620-836839D7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5860A-14FF-49ED-9DB2-A22270CA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FB945-3F7A-4EF9-A9BF-79EE08C3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1DFA-F9DB-4C2E-8FF3-C929B088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5D14D-CF7F-4C66-92CD-27B2F641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250B0-F7E5-453D-8968-D16D3357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8357A-D6CF-4D54-B43D-DD15D1EE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57265-2781-43FA-8381-D8DA495D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40553-2AE1-4276-A7C6-FD77A8C3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D4FF4-86C2-48C1-9273-AD19272D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7C34E-C442-40C7-9B50-E1899B4A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99616-C20E-4F52-99AC-0985E2CE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C8C52-F110-4D9E-ACE1-0D3AE5FA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9234-120E-42C8-B8C9-92BF68AF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55F2-D481-416D-AC8C-ADF9CC7E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A6D5-6A3D-4DED-B844-78E246F1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19E8-AD26-45EF-AD1D-93B9735A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2609-164F-4571-B9A6-8BF0AA13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D366-6FAC-4C0A-84A7-D525616A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95A2-098E-479B-882F-91F24461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8913-1B2E-4172-A763-9EA64734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5E91-0A27-43E9-90DB-489ABB41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7D7E-60B3-4B3D-A6D1-C366D59C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7825-650C-4297-A8F0-750C2B00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9410-6A7E-4D85-8F58-676830DA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EA4E-B825-40CC-AFF9-D4A87A7F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FAF38-93F5-4EB5-8A05-C5332A5E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C7C-EF1C-4D99-8DCD-61060BF2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27A4-F851-48CE-A582-618726DD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B9FD7-1E3E-40E5-A3C9-4C9100C8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4586-C375-4DE4-A7BC-A4956EC2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CDD5-FCA0-46CC-8701-BE3C9529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CBBA4-3048-4740-BB80-C0B10AE7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7343E-6D8C-4C5E-A601-23E7B962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AE86-FD99-4A63-BFD2-CE8FE79F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A24E-0666-4DD8-9EED-8DA56145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F7E6-3D6C-435C-B754-3E5A4E66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EC326-0DD8-448D-BC24-DD9C6DF3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63A-2C07-41DD-AE7B-41B95EF6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C71A-D023-4F9C-B6E5-59D115E6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1491-4B5C-4D1B-893D-220A0DCF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BB024-9EA4-4CDF-B23A-83C4E7FD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6385-F8C7-443F-8417-331D328D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6839-0AA2-46FB-90AF-7D3E0823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7DF1-52BA-4AF4-B8D1-DB4CDF7B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01AB7-203F-4195-9B93-F4D02447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22E8-64EF-44CD-9D28-A9A37E29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ADE3C-7254-4763-97A7-67CBAEA2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E80B9-51F5-4E83-AEB2-10C8A6B2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93D-CA48-42B5-9B11-B4108C35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1F784-C0E6-414E-A5D8-7A9E8EDB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6C1D6-BB90-4561-A836-B3CE1562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25CB3-082F-47E6-860F-44E909A1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0E8E2-778A-427B-B92B-9C808FF9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22FAE-60D2-4C9F-9AFC-EF52395C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B18EA-8F72-40A5-8ED1-D48FF6BF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A9F34-ADBE-4D7C-A839-F8711ADE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2DFC-7765-4263-BBEA-D2F22804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0AF3E-7BF1-4558-9023-38655448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AEB6D-F247-4B93-9190-5807C07F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5AE-CA46-48C1-BC96-CB0D8F59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0FBD7-B937-4C63-B7AA-73FECCE6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F54E9-33B8-4879-9F4A-AE65E2D8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B3D38-C331-4939-AB05-6FD050E0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54330-01B9-4C02-8201-0BF11BBD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CD70-2302-4AF6-B53C-5D909BCB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E2A0C-5A11-4FA3-90FB-32736BD7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07A03-803A-4202-A7C1-E249033A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2883F-AD25-48D2-8043-8E665D62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375CE-E9C0-4829-88A1-71218D2A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14B03-1FC0-4266-AA7B-C1C13FD6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979-8E27-492B-99D7-323C3DD8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ED444-0673-4812-8310-678ECF49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A93C4-01EB-4921-A1D2-8F9CF9BE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14122-D1D7-4F5B-AEEF-9F953E36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C6126-F745-4840-8B64-938799E1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30967-2486-439C-A00C-32A015C6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3413A-7F4D-4E9C-AE56-D5E6DCDC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C3756-E965-4A80-A511-A0200285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153C7-0AB1-41D0-BCEA-B6A93612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3793D-62AC-4F82-8669-EBDD52B0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384C1-8D4B-4CDE-B824-CCF4DEB0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735-6F21-40AD-A37C-6F2AE571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A9B2C-27DB-4F5E-BAEE-6F581969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98C74-07A1-4063-990B-B1CCAFD4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F36CE-71EF-4852-9F99-5DC80E13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843B-311E-4573-AA9A-189F571A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CB87D-5588-4464-97EC-E645423F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BC56F-7AB2-45CE-BF18-341F872C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E2D7C-CAFE-476F-B2C7-170A9288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D1892-9C33-492C-ABDC-627D3D0E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F163C-87C9-4CA6-928D-C53B7B51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661C9-0AD6-45B1-867D-6FA6DEF3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A66-12D3-41EF-BE4D-DB258046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ABC3A-B568-4DDE-8CD0-4F1BCD2B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0F23D-F957-4CD1-B9DA-1DB440D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5439F-6B63-4691-B2B5-A9777888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D0037-F9AA-409B-94D8-9C0D2C15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7AF19-42D5-4AB9-9ED0-50940475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000B7-F65C-4EFD-AFB7-F0F3C3B7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5F70D-DA77-4C90-9C6B-53758D5B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06D61-D08F-4354-B048-6BC2E535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F8761-6584-43A9-BA15-87B5C722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CB204-C1A0-48EE-958F-987CD316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F01F-0F7E-47C8-8231-76483C6CC90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8229-F769-44FD-B6C2-F733038C336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258A-558F-4896-8878-2BD95A90101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6558-AF43-486B-829D-35EA1523D61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51FC-30E0-4A37-950F-28DA0E296DA6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75B6-356B-4F19-9F7F-372CD8C760D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A563-3A64-41BF-86D0-E5A06567F46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840A-2DCB-49DB-AFBB-6E3E6430B3A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AB4A-5830-4795-981D-ACFF5F9EA9A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7289-829D-4F84-8BE1-8DF3A55BBF2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CADD-5DC5-444A-A447-908605812A3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D0A1-1E44-4DC2-9A12-1DD91A7E571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2B4E-4DF2-405C-997C-C3A5334832C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BB6E-8157-4FC5-89FC-D488DBA803F4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standart.edu.ru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8" descr="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Rectangle 2" descr=""/>
          <p:cNvPicPr/>
          <p:nvPr/>
        </p:nvPicPr>
        <p:blipFill>
          <a:blip r:embed="rId2"/>
          <a:stretch/>
        </p:blipFill>
        <p:spPr>
          <a:xfrm>
            <a:off x="469800" y="695160"/>
            <a:ext cx="7772400" cy="3803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5" descr="stand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606" name="TextBox 4"/>
          <p:cNvSpPr/>
          <p:nvPr/>
        </p:nvSpPr>
        <p:spPr>
          <a:xfrm>
            <a:off x="3214800" y="4572000"/>
            <a:ext cx="33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МБОУОУМ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685800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mbria"/>
              </a:rPr>
              <a:t>           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Cambria"/>
              </a:rPr>
              <a:t>План: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- отчёт о привлечении спонсорских средств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- учебно-воспитательная работа в школе.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Заголов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72400" cy="83484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67816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81300 рубл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отратил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электротовары –  10416 рубл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лакокрасочные материалы – 26048 руб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моющие средства – 530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материалы для ремонта (биты, гвозди, болты, кисти, саморезы,замазка, клей для линолеума) – 6750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охрана КЭВ – 11930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емонт канализации – 11844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едписание СЭС – 6611 рубл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                               </a:t>
            </a: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итого – 74129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                     </a:t>
            </a: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остаток с прошлого года – 1326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                     </a:t>
            </a: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остаток на конец 2022 года – 5845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Заголов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72400" cy="8348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67816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250000рубл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иобрел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раскопульт – 14650 руб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триммер – 7290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тумба  четырёхдверная – 11500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шкаф двустворчатый – 11250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шкаф  одностворчатый – 16500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           </a:t>
            </a: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шкаф разноцелевой – 17000 рубл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           </a:t>
            </a: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линолеум – 171285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                               </a:t>
            </a: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итого – 249475 руб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Заголовок 1" descr=""/>
          <p:cNvPicPr/>
          <p:nvPr/>
        </p:nvPicPr>
        <p:blipFill>
          <a:blip r:embed="rId1"/>
          <a:stretch/>
        </p:blipFill>
        <p:spPr>
          <a:xfrm>
            <a:off x="993600" y="500040"/>
            <a:ext cx="7772400" cy="85248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990720" y="1213920"/>
            <a:ext cx="6781680" cy="32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 u="sng">
              <a:solidFill>
                <a:srgbClr val="6585cf"/>
              </a:solidFill>
              <a:uFillTx/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042920" y="1341360"/>
          <a:ext cx="6553440" cy="40942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  <a:gridCol w="1225800"/>
                <a:gridCol w="863280"/>
                <a:gridCol w="223236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тер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еб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Г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ебные расходы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ол производственный, столешницы, стулья, ножницы. паласы, тонер, кабель соединительный, медали, аттестаты, лиценз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2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85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6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9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9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9:02:32Z</dcterms:created>
  <dc:creator>BLACKEDITION</dc:creator>
  <dc:description/>
  <dc:language>en-US</dc:language>
  <cp:lastModifiedBy>User</cp:lastModifiedBy>
  <dcterms:modified xsi:type="dcterms:W3CDTF">2023-02-11T06:42:06Z</dcterms:modified>
  <cp:revision>257</cp:revision>
  <dc:subject/>
  <dc:title>Организация образовательного процесса на деятельностной основе как условие реализации образовательных стандартов второго поколения</dc:title>
</cp:coreProperties>
</file>